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13.png" ContentType="image/png"/>
  <Override PartName="/ppt/media/image6.png" ContentType="image/png"/>
  <Override PartName="/ppt/media/image10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3.gif" ContentType="image/gif"/>
  <Override PartName="/ppt/media/image26.jpeg" ContentType="image/jpeg"/>
  <Override PartName="/ppt/media/image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3526-CC76-4B06-9093-6DCC2D315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5E10-5CB3-408C-9E7C-E8D341FF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3D3D-A7CB-4914-B219-1B16363DE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5AFD-5DD7-4490-AECB-4C9BE5314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9274-A46A-4778-8BDC-B059F379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EA91-44A6-480E-8A64-FA9A3771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82AE-1364-4799-89B6-85E2E1AF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0278-C787-488D-AE48-6B8824AA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B879-5A39-49DE-A076-602921730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0628-0D83-47E0-8D55-1E83DD11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3DFD-166A-4C12-B06B-FBF2A1A1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491A-F2C3-4F14-8BBF-8F2D18A2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E93E-4361-4F48-BB22-440F3E052D2C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image" Target="../media/image3.jpeg"/><Relationship Id="rId7" Type="http://schemas.openxmlformats.org/officeDocument/2006/relationships/image" Target="../media/image4.gif"/><Relationship Id="rId8" Type="http://schemas.openxmlformats.org/officeDocument/2006/relationships/slide" Target="slide3.xml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" Target="slide3.xml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image" Target="../media/image24.png"/><Relationship Id="rId5" Type="http://schemas.openxmlformats.org/officeDocument/2006/relationships/image" Target="../media/image6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jamaa.cc/up/_=4063=_welcome4.gif"/>
          <p:cNvPicPr/>
          <p:nvPr/>
        </p:nvPicPr>
        <p:blipFill>
          <a:blip r:embed="rId1"/>
          <a:stretch/>
        </p:blipFill>
        <p:spPr>
          <a:xfrm>
            <a:off x="1714680" y="1071720"/>
            <a:ext cx="5648040" cy="43909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ا</a:t>
            </a:r>
            <a:r>
              <a:rPr b="0" lang="ar-SA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لفهر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786200" y="1714680"/>
            <a:ext cx="3757680" cy="452592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txBody>
          <a:bodyPr anchor="t">
            <a:normAutofit fontScale="68000"/>
          </a:bodyPr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1" action="ppaction://hlinksldjump"/>
              </a:rPr>
              <a:t>كساء الأشجار بأوراق جديدة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2" action="ppaction://hlinksldjump"/>
              </a:rPr>
              <a:t>حشرات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3" action="ppaction://hlinksldjump"/>
              </a:rPr>
              <a:t>أزهار الربيع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4" action="ppaction://hlinksldjump"/>
              </a:rPr>
              <a:t>حالة الطقس في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5" action="ppaction://hlinksldjump"/>
              </a:rPr>
              <a:t>قصيدة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Arabic Typesetting"/>
                <a:ea typeface="Arabic Typesetting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Vertical Scroll 6"/>
          <p:cNvSpPr/>
          <p:nvPr/>
        </p:nvSpPr>
        <p:spPr>
          <a:xfrm>
            <a:off x="357120" y="1285920"/>
            <a:ext cx="4214880" cy="5000760"/>
          </a:xfrm>
          <a:prstGeom prst="verticalScrol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bird flying 1.gif"/>
          <p:cNvPicPr/>
          <p:nvPr/>
        </p:nvPicPr>
        <p:blipFill>
          <a:blip r:embed="rId7"/>
          <a:stretch/>
        </p:blipFill>
        <p:spPr>
          <a:xfrm>
            <a:off x="5000760" y="-500040"/>
            <a:ext cx="2928960" cy="257184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5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7" descr=""/>
          <p:cNvPicPr/>
          <p:nvPr/>
        </p:nvPicPr>
        <p:blipFill>
          <a:blip r:embed="rId10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8" descr=""/>
          <p:cNvPicPr/>
          <p:nvPr/>
        </p:nvPicPr>
        <p:blipFill>
          <a:blip r:embed="rId11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71480" y="213840"/>
            <a:ext cx="4143240" cy="114300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ff"/>
                </a:solidFill>
                <a:latin typeface="Calibri"/>
                <a:cs typeface="Times New Roman"/>
              </a:rPr>
              <a:t>كساء الأشجار بأوراق جديدة</a:t>
            </a:r>
            <a:r>
              <a:rPr b="0" lang="ar-SA" sz="3200" spc="-1" strike="noStrike">
                <a:solidFill>
                  <a:srgbClr val="0099ff"/>
                </a:solidFill>
                <a:latin typeface="Calibri"/>
                <a:ea typeface="Times New Roman"/>
              </a:rPr>
              <a:t>: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929120" y="1643040"/>
            <a:ext cx="3943440" cy="452592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يكسو الأشجار أورا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جديدة في فصل الربيع مثل: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لو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ين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و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6"/>
          <p:cNvSpPr/>
          <p:nvPr/>
        </p:nvSpPr>
        <p:spPr>
          <a:xfrm>
            <a:off x="500040" y="1643040"/>
            <a:ext cx="4143240" cy="40719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4" descr=""/>
          <p:cNvPicPr/>
          <p:nvPr/>
        </p:nvPicPr>
        <p:blipFill>
          <a:blip r:embed="rId3"/>
          <a:stretch/>
        </p:blipFill>
        <p:spPr>
          <a:xfrm>
            <a:off x="-115920" y="6334200"/>
            <a:ext cx="969840" cy="53028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5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7240" y="213840"/>
            <a:ext cx="468648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00"/>
                </a:solidFill>
                <a:latin typeface="Arabic Typesetting"/>
                <a:cs typeface="Arabic Typesetting"/>
              </a:rPr>
              <a:t>حشرات الربي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72120" y="1428480"/>
            <a:ext cx="2757600" cy="4197240"/>
          </a:xfrm>
          <a:prstGeom prst="rect">
            <a:avLst/>
          </a:prstGeom>
          <a:noFill/>
          <a:ln w="0">
            <a:solidFill>
              <a:srgbClr val="ffff00"/>
            </a:solidFill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Calibri"/>
                <a:cs typeface="Akhbar MT"/>
              </a:rPr>
              <a:t>تتمايل الحشرات في فصل الربيع على الأزهار حيث تنتقل من زهره إلى زهره لكي تمتص رحيقها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صورة 5" descr="405.gif"/>
          <p:cNvPicPr/>
          <p:nvPr/>
        </p:nvPicPr>
        <p:blipFill>
          <a:blip r:embed="rId1"/>
          <a:stretch/>
        </p:blipFill>
        <p:spPr>
          <a:xfrm>
            <a:off x="500040" y="357120"/>
            <a:ext cx="771480" cy="881280"/>
          </a:xfrm>
          <a:prstGeom prst="rect">
            <a:avLst/>
          </a:prstGeom>
          <a:ln w="0">
            <a:noFill/>
          </a:ln>
        </p:spPr>
      </p:pic>
      <p:sp>
        <p:nvSpPr>
          <p:cNvPr id="59" name="Cloud Callout 6"/>
          <p:cNvSpPr/>
          <p:nvPr/>
        </p:nvSpPr>
        <p:spPr>
          <a:xfrm>
            <a:off x="571680" y="1643040"/>
            <a:ext cx="4857480" cy="4000680"/>
          </a:xfrm>
          <a:prstGeom prst="cloudCallout">
            <a:avLst>
              <a:gd name="adj1" fmla="val -20833"/>
              <a:gd name="adj2" fmla="val 6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8" descr=""/>
          <p:cNvPicPr/>
          <p:nvPr/>
        </p:nvPicPr>
        <p:blipFill>
          <a:blip r:embed="rId6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alibri"/>
                <a:cs typeface="Times New Roman"/>
              </a:rPr>
              <a:t>أزهار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429160" y="1285560"/>
            <a:ext cx="3143520" cy="450036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في فصل الربيع تلبس الأرض حله جميلة من الأعشاب الخضراء والأزهار الملونة ذات الرائحة الجذابة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714240" y="1285920"/>
            <a:ext cx="3929040" cy="500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6a45cbb5316206458ae15cb2f78ba544.gif"/>
          <p:cNvPicPr/>
          <p:nvPr/>
        </p:nvPicPr>
        <p:blipFill>
          <a:blip r:embed="rId2"/>
          <a:stretch/>
        </p:blipFill>
        <p:spPr>
          <a:xfrm>
            <a:off x="4929120" y="4952880"/>
            <a:ext cx="2143080" cy="190512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7" descr=""/>
          <p:cNvPicPr/>
          <p:nvPr/>
        </p:nvPicPr>
        <p:blipFill>
          <a:blip r:embed="rId5"/>
          <a:stretch/>
        </p:blipFill>
        <p:spPr>
          <a:xfrm>
            <a:off x="3645000" y="6272280"/>
            <a:ext cx="1360440" cy="615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onotype Koufi"/>
                <a:cs typeface="Monotype Koufi"/>
              </a:rPr>
              <a:t>حالة الطقس في فصل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0400" y="1600200"/>
            <a:ext cx="3686040" cy="452592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d0d0d"/>
                </a:solidFill>
                <a:latin typeface="Monotype Koufi"/>
                <a:cs typeface="Monotype Koufi"/>
              </a:rPr>
              <a:t>يتمتع الناس بالطقس المعتدل في فصل الربيع حيث تكثر نزهاتهم إلى الطبيعة الخلابة</a:t>
            </a:r>
            <a:r>
              <a:rPr b="0" lang="ar-SA" sz="3600" spc="-1" strike="noStrike">
                <a:solidFill>
                  <a:srgbClr val="0d0d0d"/>
                </a:solidFill>
                <a:latin typeface="Monotype Koufi"/>
                <a:ea typeface="Monotype Kouf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Heart 4"/>
          <p:cNvSpPr/>
          <p:nvPr/>
        </p:nvSpPr>
        <p:spPr>
          <a:xfrm>
            <a:off x="214200" y="1500120"/>
            <a:ext cx="4643640" cy="4857840"/>
          </a:xfrm>
          <a:prstGeom prst="pi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9c3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714560" y="856800"/>
            <a:ext cx="4143240" cy="5054760"/>
          </a:xfrm>
          <a:prstGeom prst="rect">
            <a:avLst/>
          </a:prstGeom>
          <a:noFill/>
          <a:ln w="0">
            <a:solidFill>
              <a:srgbClr val="fdeada"/>
            </a:solidFill>
          </a:ln>
        </p:spPr>
        <p:txBody>
          <a:bodyPr anchor="t">
            <a:normAutofit fontScale="63000"/>
          </a:bodyPr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عالم في الربيع يسبح في فيض </a:t>
            </a:r>
            <a:r>
              <a:rPr b="1" lang="ar-EG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س</a:t>
            </a: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اوي من الجمال والسحر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نبتهل إليه ونتغزل بالطبيعة .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وننظر إلى السماء بعيون الأمل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ربيع هو فصل الميلاد والتجد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هو الاشراقة والأمل 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2"/>
          <p:cNvSpPr/>
          <p:nvPr/>
        </p:nvSpPr>
        <p:spPr>
          <a:xfrm>
            <a:off x="285840" y="857160"/>
            <a:ext cx="4357440" cy="5000760"/>
          </a:xfrm>
          <a:prstGeom prst="parallelogram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tangle 3" descr=""/>
          <p:cNvPicPr/>
          <p:nvPr/>
        </p:nvPicPr>
        <p:blipFill>
          <a:blip r:embed="rId2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4" descr=""/>
          <p:cNvPicPr/>
          <p:nvPr/>
        </p:nvPicPr>
        <p:blipFill>
          <a:blip r:embed="rId3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6" descr=""/>
          <p:cNvPicPr/>
          <p:nvPr/>
        </p:nvPicPr>
        <p:blipFill>
          <a:blip r:embed="rId4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285640" y="5072040"/>
            <a:ext cx="6000840" cy="12859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73000"/>
          </a:bodyPr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فراشة رشيقة تطير من زهرة إلى زهرة ..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تفتننا بجناحيها الزاهيين وتحلق أكثر.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Horizontal Scroll 3"/>
          <p:cNvSpPr/>
          <p:nvPr/>
        </p:nvSpPr>
        <p:spPr>
          <a:xfrm>
            <a:off x="1428840" y="214200"/>
            <a:ext cx="7143840" cy="521496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butterfly72.gif"/>
          <p:cNvPicPr/>
          <p:nvPr/>
        </p:nvPicPr>
        <p:blipFill>
          <a:blip r:embed="rId3"/>
          <a:stretch/>
        </p:blipFill>
        <p:spPr>
          <a:xfrm flipH="1">
            <a:off x="285840" y="285840"/>
            <a:ext cx="619200" cy="48564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4" descr=""/>
          <p:cNvPicPr/>
          <p:nvPr/>
        </p:nvPicPr>
        <p:blipFill>
          <a:blip r:embed="rId4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5" descr=""/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6" descr=""/>
          <p:cNvPicPr/>
          <p:nvPr/>
        </p:nvPicPr>
        <p:blipFill>
          <a:blip r:embed="rId6"/>
          <a:stretch/>
        </p:blipFill>
        <p:spPr>
          <a:xfrm>
            <a:off x="3786120" y="6254640"/>
            <a:ext cx="135900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420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عمل الطالبة:آلاء النقيب</a:t>
            </a: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ثامن *أ*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قدمة لمعلمة الموضوع: ليندا مصارو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Down Arrow 4"/>
          <p:cNvSpPr/>
          <p:nvPr/>
        </p:nvSpPr>
        <p:spPr>
          <a:xfrm>
            <a:off x="2714760" y="0"/>
            <a:ext cx="3286080" cy="4857840"/>
          </a:xfrm>
          <a:prstGeom prst="downArrow">
            <a:avLst>
              <a:gd name="adj1" fmla="val 50000"/>
              <a:gd name="adj2" fmla="val 50002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tangle 3" descr=""/>
          <p:cNvPicPr/>
          <p:nvPr/>
        </p:nvPicPr>
        <p:blipFill>
          <a:blip r:embed="rId2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5" descr=""/>
          <p:cNvPicPr/>
          <p:nvPr/>
        </p:nvPicPr>
        <p:blipFill>
          <a:blip r:embed="rId3"/>
          <a:stretch/>
        </p:blipFill>
        <p:spPr>
          <a:xfrm>
            <a:off x="3840120" y="6334200"/>
            <a:ext cx="1176480" cy="530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3:47:33Z</dcterms:created>
  <dc:creator>ALAA</dc:creator>
  <dc:description/>
  <dc:language>en-US</dc:language>
  <cp:lastModifiedBy>msarwi mohamad</cp:lastModifiedBy>
  <dcterms:modified xsi:type="dcterms:W3CDTF">2010-06-02T05:51:02Z</dcterms:modified>
  <cp:revision>59</cp:revision>
  <dc:subject/>
  <dc:title>الربيع</dc:title>
</cp:coreProperties>
</file>